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0" cy="2743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FA1-B3DB-4C73-A5FC-353C2FB7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6400440"/>
            <a:ext cx="3291840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15857280"/>
            <a:ext cx="3291840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FD4-0524-4329-A26C-68B442AA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640044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6240" y="640044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1585728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6240" y="1585728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642-316F-4531-8EAB-42C31FF2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6400440"/>
            <a:ext cx="1059948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8560" y="6400440"/>
            <a:ext cx="1059948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88320" y="6400440"/>
            <a:ext cx="1059948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15857280"/>
            <a:ext cx="1059948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8560" y="15857280"/>
            <a:ext cx="1059948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88320" y="15857280"/>
            <a:ext cx="1059948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0C2-791C-4796-B776-905AE300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6400440"/>
            <a:ext cx="32918400" cy="181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7D91-0085-40C8-8B8C-1607BB14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6400440"/>
            <a:ext cx="32918400" cy="181054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2C8-44BA-4074-B65D-39E09A75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6400440"/>
            <a:ext cx="16063920" cy="181054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6240" y="6400440"/>
            <a:ext cx="16063920" cy="181054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E3F-810D-4EAE-9FAA-25302468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5914-B329-4AB3-A88B-6F50E014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1098720"/>
            <a:ext cx="329184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89A-C164-4CF6-9D81-C08F247E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640044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6240" y="6400440"/>
            <a:ext cx="16063920" cy="181054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1585728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607-08FB-4D6F-831A-6186CDC0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6400440"/>
            <a:ext cx="16063920" cy="181054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6240" y="640044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6240" y="1585728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11F-0515-4967-89E3-9B61D98A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640044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6240" y="640044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15857280"/>
            <a:ext cx="3291840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1970-C659-4483-857C-29510155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6400440"/>
            <a:ext cx="32918400" cy="181054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0160" indent="-137016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6160"/>
                <a:tab algn="l" pos="7311960"/>
                <a:tab algn="l" pos="1096812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1" marL="2970360" indent="-114156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6160"/>
                <a:tab algn="l" pos="7311960"/>
                <a:tab algn="l" pos="1096812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2" marL="4570560" indent="-91296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6160"/>
                <a:tab algn="l" pos="7311960"/>
                <a:tab algn="l" pos="1096812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3" marL="6399360" indent="-91296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6160"/>
                <a:tab algn="l" pos="7311960"/>
                <a:tab algn="l" pos="1096812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4" marL="8228160" indent="-91296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6160"/>
                <a:tab algn="l" pos="7311960"/>
                <a:tab algn="l" pos="1096812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5" marL="8228160" indent="-91296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6160"/>
                <a:tab algn="l" pos="7311960"/>
                <a:tab algn="l" pos="1096812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6" marL="8228160" indent="-91296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6160"/>
                <a:tab algn="l" pos="7311960"/>
                <a:tab algn="l" pos="1096812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25427160"/>
            <a:ext cx="8534520" cy="146016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lstStyle>
            <a:lvl1pPr indent="0">
              <a:buNone/>
              <a:tabLst>
                <a:tab algn="l" pos="0"/>
                <a:tab algn="l" pos="3656160"/>
                <a:tab algn="l" pos="7311960"/>
                <a:tab algn="l" pos="10968120"/>
              </a:tabLst>
              <a:defRPr b="0" lang="en-US" sz="48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r>
              <a:rPr b="0" lang="en-US" sz="48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6680" y="25427160"/>
            <a:ext cx="11582640" cy="146016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12320" y="25427160"/>
            <a:ext cx="8534520" cy="146016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lstStyle>
            <a:lvl1pPr indent="0" algn="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  <a:defRPr b="0" lang="en-US" sz="48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fld id="{BB2DCF8A-14B8-4D67-A12A-F334DBCC45C1}" type="slidenum">
              <a:rPr b="0" lang="en-US" sz="48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-7920" y="22320"/>
            <a:ext cx="36583920" cy="5715000"/>
          </a:xfrm>
          <a:prstGeom prst="rect">
            <a:avLst/>
          </a:prstGeom>
          <a:solidFill>
            <a:srgbClr val="4f26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noAutofit/>
          </a:bodyPr>
          <a:p>
            <a:pPr algn="ctr">
              <a:tabLst>
                <a:tab algn="l" pos="0"/>
                <a:tab algn="l" pos="3656160"/>
                <a:tab algn="l" pos="7311960"/>
                <a:tab algn="l" pos="1096812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24684120"/>
            <a:ext cx="3657600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noAutofit/>
          </a:bodyPr>
          <a:p>
            <a:pPr algn="ctr"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127400" y="3048120"/>
            <a:ext cx="2806704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6160"/>
                <a:tab algn="l" pos="7311960"/>
                <a:tab algn="l" pos="109681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Type font is Arial, Size is 44: Names of researchers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56160"/>
                <a:tab algn="l" pos="7311960"/>
                <a:tab algn="l" pos="109681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Department, Schulich School of Medicine &amp; Dentistry, Western University, London, ON, Canad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2413080" y="1015920"/>
            <a:ext cx="3174984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6160"/>
                <a:tab algn="l" pos="7311960"/>
                <a:tab algn="l" pos="1096812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Arial"/>
              </a:rPr>
              <a:t>Title of Research Poster goes here. Type is Arial Bold 75pt.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2465880" y="1015920"/>
            <a:ext cx="2600280" cy="3481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1217520" y="1015920"/>
            <a:ext cx="3389400" cy="3481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27505080" y="24645960"/>
            <a:ext cx="756108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9:57:56Z</dcterms:created>
  <dc:creator>Administrator</dc:creator>
  <dc:description/>
  <dc:language>en-US</dc:language>
  <cp:lastModifiedBy>Giovanni Foco</cp:lastModifiedBy>
  <dcterms:modified xsi:type="dcterms:W3CDTF">2019-03-14T14:04:24Z</dcterms:modified>
  <cp:revision>39</cp:revision>
  <dc:subject/>
  <dc:title>PowerPoint Presentation</dc:title>
</cp:coreProperties>
</file>